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4786-3AA6-4896-B779-2145FB9AD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710C-E4D7-4D99-A329-EEC8C281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A2EC-F8E2-4DFC-9221-AB729B1C4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A99D-6394-4A38-BF76-2888BDEC2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716F-F3D3-43D2-88AF-BD4BE38C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0B78-486D-4788-A064-C7AD8FE6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FB3E-5D0E-41D9-9D15-4F7F8B92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94F8-8F3C-4522-97BC-F251AF73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6E78-DB5B-4583-A8E9-99F4C2CF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B157-EDAE-4808-8EC3-0DF0BBA6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B140-247D-4FD7-B50B-C9058483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4ACF-40EE-44A2-BBF7-DD2EA4C2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DC23-E183-4BDF-B452-ED9C6A9C32D1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752480"/>
            <a:ext cx="6400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ثال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ndalus"/>
              </a:rPr>
              <a:t>تطوير التقارير المال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CF45-A8DA-411F-9ACC-0422CFCF34B3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466640"/>
            <a:ext cx="815328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عن للعامل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3295800"/>
            <a:ext cx="792504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معلومات عن العاملين وأعدادهم وأعمارهم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DEC0-825B-4D6C-8A4A-FF93239BBD05}" type="slidenum">
              <a:t>10</a:t>
            </a:fld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15379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عن الموارد البش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3367080"/>
            <a:ext cx="784872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معلومات مالية عن تكلفة اختيار وتعيين وتدريب العامل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D0E6-7292-422E-95C7-66CBBDDA5AFA}" type="slidenum">
              <a:t>11</a:t>
            </a:fld>
          </a:p>
        </p:txBody>
      </p:sp>
    </p:spTree>
  </p:cSld>
  <p:transition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160920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اجتما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3438360"/>
            <a:ext cx="7925040" cy="243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لبيان كل من نفقات وعوائد المشروعات الاجتماعية وحماية البيئ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35CB-6BCD-46C6-965E-C15A28072810}" type="slidenum">
              <a:t>12</a:t>
            </a:fld>
          </a:p>
        </p:txBody>
      </p:sp>
    </p:spTree>
  </p:cSld>
  <p:transition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14569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بالقيمة المضا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3438360"/>
            <a:ext cx="7848720" cy="243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لبيان مدى مساهمة كل عامل من عوامل الانتاج في الدخل المحق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91320" y="6237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01F4-A5C5-411D-B46B-A0EC994B03D5}" type="slidenum">
              <a:t>13</a:t>
            </a:fld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785160" y="2242440"/>
            <a:ext cx="7488000" cy="38973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طورت التقارير المالية من حيث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كمية 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نوع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طريقة عرض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الحد الادنى الضروري من المعلومات التي يجب الإفصا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   عنه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765000"/>
            <a:ext cx="7705440" cy="1079640"/>
          </a:xfrm>
          <a:prstGeom prst="bevel">
            <a:avLst>
              <a:gd name="adj" fmla="val 2644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طور التقارير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E418-F584-455A-ADC9-956E02FB341E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92468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ماذا ظهرت الدعوة إلى تطوير التقارير المالية؟؟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3352320"/>
            <a:ext cx="7848360" cy="18766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عدم وفاء التقارير المالية بشكلها الحالي باحتياجات المستفيدين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9A7A-B990-418C-85BA-3C6CBF05DF6C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32040"/>
            <a:ext cx="7772400" cy="768240"/>
          </a:xfrm>
          <a:prstGeom prst="rect">
            <a:avLst/>
          </a:prstGeom>
          <a:gradFill rotWithShape="0">
            <a:gsLst>
              <a:gs pos="0">
                <a:srgbClr val="c5ffc5"/>
              </a:gs>
              <a:gs pos="50000">
                <a:srgbClr val="ffffff"/>
              </a:gs>
              <a:gs pos="100000">
                <a:srgbClr val="c5ffc5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هي مظاهر هذا التطور؟؟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43040" y="2000160"/>
            <a:ext cx="7772400" cy="4172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قطاع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متعددة الأغراض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دورية (الفترية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مستقبل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موجز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للعاملي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عن الموارد البشر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حاسبة الاجتماع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بالقيمة المضاف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4AE5-6F08-4610-B4A0-BBBC4D48D107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5379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قطا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3367080"/>
            <a:ext cx="822960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الافصاح حسب الانتاج أو المناطق الجغراف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462D-2B90-4D56-87E0-A0B85A17CC3E}" type="slidenum">
              <a:t>5</a:t>
            </a:fld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18205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متعددة الاغرا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438360"/>
            <a:ext cx="8001000" cy="243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عدة طرق مثل تكلفة الاحلال أو الجا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57F3-9D30-4F4B-8DC1-791AB9D65596}" type="slidenum">
              <a:t>6</a:t>
            </a:fld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37920"/>
            <a:ext cx="784872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دورية (الفترية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367080"/>
            <a:ext cx="784872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لفترات قصيرة ربع سنوية مثل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9FC4-5918-431E-8733-9145A9C929A1}" type="slidenum">
              <a:t>7</a:t>
            </a:fld>
          </a:p>
        </p:txBody>
      </p:sp>
    </p:spTree>
  </p:cSld>
  <p:transition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1537920"/>
            <a:ext cx="79246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مستقبل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3367080"/>
            <a:ext cx="815364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قوائم معتمدة على تنبؤات مستقب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FF22-A21A-4B90-ACE6-65F70EBAC1E5}" type="slidenum">
              <a:t>8</a:t>
            </a:fld>
          </a:p>
        </p:txBody>
      </p:sp>
    </p:spTree>
  </p:cSld>
  <p:transition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1142640"/>
            <a:ext cx="79246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موجز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971800"/>
            <a:ext cx="784872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  <a:cs typeface="PT Bold Heading"/>
              </a:rPr>
              <a:t>المختصر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31AB-4BFB-466B-939E-D5AC68915BC5}" type="slidenum">
              <a:t>9</a:t>
            </a:fld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7T21:54:19Z</dcterms:modified>
  <cp:revision>28</cp:revision>
  <dc:subject/>
  <dc:title>التحليل المالي والائتماني</dc:title>
</cp:coreProperties>
</file>